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282-D013-449A-82DD-953CB5F3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957-4185-40E8-8E0C-C6FC0094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DD8B-1838-432C-B65F-37CD8715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26D-35B0-41A8-9918-7B9042BC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7C83-59D7-48F3-B536-D46D84D0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EE5E-A993-4329-BA38-2879E631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2987-90D2-4BAE-A67F-8235F2B5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C744-BB13-4A87-B5D4-3AFB6C93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55AC-EE3F-4E47-B93B-14152D1B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EEC5-7B6C-45B1-993C-19EAD8C9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4B63-DC21-401B-B56E-4CF91A63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B625-26AD-4339-8B18-C7DDEA40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095E-FF60-4207-8AB7-81632ED6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726B-AD94-43F3-9EA3-A000D1ED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EC17-6D92-4B8B-8AA2-F2C233B3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738B-9BDD-496D-BC25-2C5D0EF8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B834-25E4-4465-B995-1A894ECF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3C8-5FB7-42AE-A6F7-1FDE3405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C97-E91C-4F9A-92CB-DA50A894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6C0-7D25-4229-8605-B4E68ADF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597-EE81-4CFE-AB67-5E94A4E2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70D-400F-444E-A3E8-06CF7E51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280-AF50-46F2-AFDA-94DC413C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79E-DA6D-4A5D-B47F-9DEEA2B2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7ADE-0947-4331-811C-FBCE70A3DCB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6C54-A781-4C7E-8F72-F9D9D601D89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cdmc.ucdavis.edu/welcome/features/20060621_teen_moms/photos/teen_pregnancy.jpg" TargetMode="External"/><Relationship Id="rId2" Type="http://schemas.openxmlformats.org/officeDocument/2006/relationships/hyperlink" Target="http://fig.cox.miami.edu/~cmallery/150/devel/c7.46.17.human.fetus.jpg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enage Pregnancy: </a:t>
            </a:r>
            <a:br>
              <a:rPr sz="3200"/>
            </a:b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Don’t do it!!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ing a Teen Moth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you imagine a girl at the age of 15, barely legal to get her driver’s license, getting pregnant by her boyfriend. Well, if you can believe it, my friend is that girl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8280" y="2362320"/>
            <a:ext cx="1390680" cy="1795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84840" y="4290840"/>
            <a:ext cx="1717560" cy="17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s is how the fetus looks like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852560" y="4290840"/>
          <a:ext cx="1743120" cy="17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2560" y="4290840"/>
                    <a:ext cx="1743120" cy="17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757760" y="4290840"/>
            <a:ext cx="3773520" cy="17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1523880" y="1523880"/>
          <a:ext cx="1944720" cy="241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523880"/>
                    <a:ext cx="194472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680080" y="2487600"/>
          <a:ext cx="1755720" cy="160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80080" y="2487600"/>
                    <a:ext cx="17557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757760" y="2997360"/>
          <a:ext cx="3773520" cy="245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7760" y="2997360"/>
                    <a:ext cx="377352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ucdmc.ucdavis.edu/welcome/features/20060621_teen_moms/photos/teen_pregnancy.jp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39aa1"/>
                </a:solidFill>
                <a:uFillTx/>
                <a:latin typeface="Arial"/>
              </a:rPr>
              <a:t>http://women4hope.files.wordpress.com/2007/12/teens-pregnancy.jp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fig.cox.miami.edu/~cmallery/150/devel/c7.46.17.human.fetus.jp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39aa1"/>
                </a:solidFill>
                <a:uFillTx/>
                <a:latin typeface="Arial"/>
              </a:rPr>
              <a:t>http://www.infoplease.com/ipa/A0193727.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399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8:09:01Z</dcterms:created>
  <dc:creator>SI</dc:creator>
  <dc:description/>
  <dc:language>en-US</dc:language>
  <cp:lastModifiedBy>SI</cp:lastModifiedBy>
  <dcterms:modified xsi:type="dcterms:W3CDTF">2008-07-07T19:00:47Z</dcterms:modified>
  <cp:revision>3</cp:revision>
  <dc:subject/>
  <dc:title> Teenage Pregnancy:  Don’t do it!!</dc:title>
</cp:coreProperties>
</file>